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A716-19E7-4D95-9CD6-473EA7006D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1BEB-B7AC-4273-B632-9E88341613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139-7958-4ABB-8C60-AB3BDBAD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872-F720-4324-870D-31665EF2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C5C-0AFA-4783-BFF9-AB4E32D8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DB4-B68B-4B97-B2ED-9CF85B90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BBF-BA95-47A0-9990-B2FA80FF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ED8E-7C2B-42CC-B189-54972511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ED6-928E-4BD2-A19E-59EC1078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5F5-C71F-4500-AF17-2DD7E695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2B9-F457-4AFD-93C4-33BFBEFB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BA7-9A66-40AA-8997-8039F70B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C27-F9C2-4D36-8EB2-7DBE7AC9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1B2-7326-42B6-BABC-6D0FDFA1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B2B6-1580-456D-AB40-B21D30609C5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d"/>
          <p:cNvPicPr/>
          <p:nvPr/>
        </p:nvPicPr>
        <p:blipFill>
          <a:blip r:embed="rId1"/>
          <a:stretch/>
        </p:blipFill>
        <p:spPr>
          <a:xfrm>
            <a:off x="4140360" y="3284640"/>
            <a:ext cx="5040000" cy="3600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hMSC ter2"/>
          <p:cNvPicPr/>
          <p:nvPr/>
        </p:nvPicPr>
        <p:blipFill>
          <a:blip r:embed="rId2"/>
          <a:stretch/>
        </p:blipFill>
        <p:spPr>
          <a:xfrm>
            <a:off x="326880" y="-15840"/>
            <a:ext cx="4087800" cy="3732120"/>
          </a:xfrm>
          <a:prstGeom prst="rect">
            <a:avLst/>
          </a:prstGeom>
          <a:ln w="0">
            <a:noFill/>
          </a:ln>
        </p:spPr>
      </p:pic>
      <p:sp>
        <p:nvSpPr>
          <p:cNvPr id="50" name="Line 8"/>
          <p:cNvSpPr/>
          <p:nvPr/>
        </p:nvSpPr>
        <p:spPr>
          <a:xfrm flipH="1">
            <a:off x="1152360" y="858960"/>
            <a:ext cx="8971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 flipH="1">
            <a:off x="115920" y="66672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>
            <a:off x="1154160" y="113040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 flipV="1">
            <a:off x="1649880" y="1219320"/>
            <a:ext cx="297000" cy="32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 flipV="1">
            <a:off x="1694880" y="1304640"/>
            <a:ext cx="354960" cy="57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 flipV="1">
            <a:off x="1657800" y="2027160"/>
            <a:ext cx="399240" cy="43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 flipH="1">
            <a:off x="2774520" y="23302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 flipH="1">
            <a:off x="115920" y="11304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H="1">
            <a:off x="115920" y="158580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 flipH="1">
            <a:off x="110880" y="2192400"/>
            <a:ext cx="21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 flipH="1">
            <a:off x="115920" y="2968560"/>
            <a:ext cx="216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4384440" y="339840"/>
            <a:ext cx="55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RP9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631800" y="736560"/>
            <a:ext cx="55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RP7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123840" y="981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Protein Disulfide</a:t>
            </a:r>
            <a:br>
              <a:rPr sz="900"/>
            </a:b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isomera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40280" y="2346480"/>
            <a:ext cx="74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nnexin 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4"/>
          <p:cNvSpPr/>
          <p:nvPr/>
        </p:nvSpPr>
        <p:spPr>
          <a:xfrm flipH="1">
            <a:off x="2329920" y="151776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142920" y="1554120"/>
            <a:ext cx="109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Protein Disulfide</a:t>
            </a:r>
            <a:br>
              <a:rPr sz="900"/>
            </a:b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isomerase</a:t>
            </a:r>
            <a:br>
              <a:rPr sz="900"/>
            </a:b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related prote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7"/>
          <p:cNvSpPr/>
          <p:nvPr/>
        </p:nvSpPr>
        <p:spPr>
          <a:xfrm>
            <a:off x="162000" y="1362240"/>
            <a:ext cx="97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Tubulin Beta 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8"/>
          <p:cNvSpPr/>
          <p:nvPr/>
        </p:nvSpPr>
        <p:spPr>
          <a:xfrm flipV="1">
            <a:off x="1967040" y="460440"/>
            <a:ext cx="264960" cy="26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4488480" y="1407960"/>
            <a:ext cx="747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Actin Be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4393080" y="213372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Heat Shock</a:t>
            </a:r>
            <a:br>
              <a:rPr sz="900"/>
            </a:b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Protein Beta-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3"/>
          <p:cNvSpPr/>
          <p:nvPr/>
        </p:nvSpPr>
        <p:spPr>
          <a:xfrm flipH="1">
            <a:off x="1152000" y="1547640"/>
            <a:ext cx="50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 flipH="1">
            <a:off x="1155600" y="24670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6"/>
          <p:cNvSpPr/>
          <p:nvPr/>
        </p:nvSpPr>
        <p:spPr>
          <a:xfrm flipH="1">
            <a:off x="1157040" y="187020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7"/>
          <p:cNvSpPr/>
          <p:nvPr/>
        </p:nvSpPr>
        <p:spPr>
          <a:xfrm>
            <a:off x="2232000" y="460440"/>
            <a:ext cx="216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0"/>
          <p:cNvSpPr/>
          <p:nvPr/>
        </p:nvSpPr>
        <p:spPr>
          <a:xfrm>
            <a:off x="5346000" y="208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gure 1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1"/>
          <p:cNvSpPr/>
          <p:nvPr/>
        </p:nvSpPr>
        <p:spPr>
          <a:xfrm>
            <a:off x="2486880" y="6093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igure 1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3:40:50Z</dcterms:created>
  <dc:creator>CNRS</dc:creator>
  <dc:description/>
  <dc:language>en-US</dc:language>
  <cp:lastModifiedBy>Meghan Harnois</cp:lastModifiedBy>
  <dcterms:modified xsi:type="dcterms:W3CDTF">2010-07-12T20:20:22Z</dcterms:modified>
  <cp:revision>10</cp:revision>
  <dc:subject/>
  <dc:title>Diapositive 1</dc:title>
</cp:coreProperties>
</file>